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wmf" ContentType="image/x-wmf"/>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329BD-02A0-4773-80F2-5B7844A2F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85883-D912-4C4D-A0ED-090B69CF5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781D2A-5445-474F-8A82-AB1782719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F3406-0A05-4B0E-9D90-B5D62BDC7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BCF99-FFF8-4C65-BCCC-65DEECA1F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F5B81-DE8B-4A6A-B519-2A029DBA7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D3A34-4FFF-4060-960F-1B9E2195C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C4A0-3AE9-4700-B151-1E6AD5F4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F7BCA8-3CD0-4E1E-9568-86C6EDCD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0FAC8-14BE-485C-8FA3-306DB7653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9A05E-7995-47FF-842B-B328F243B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6D155-C65F-4179-9D1D-D4AB39581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defRPr b="0" lang="tr-TR" sz="1200" spc="-1" strike="noStrike">
                <a:solidFill>
                  <a:srgbClr val="898989"/>
                </a:solidFill>
                <a:latin typeface="Arial"/>
              </a:defRPr>
            </a:lvl1pPr>
          </a:lstStyle>
          <a:p>
            <a:pPr indent="0" algn="r">
              <a:buNone/>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fld id="{E0375D65-CB26-4C73-8E19-EBF4B6FCA9F1}"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22040" y="700200"/>
            <a:ext cx="8839080" cy="599256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Calibri Light"/>
              </a:rPr>
              <a:t>ANLATIM BOZUKLUKLARI</a:t>
            </a:r>
            <a:endParaRPr b="0" lang="en-US" sz="2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82160" y="685440"/>
            <a:ext cx="8032680" cy="5992920"/>
          </a:xfrm>
          <a:prstGeom prst="rect">
            <a:avLst/>
          </a:prstGeom>
          <a:noFill/>
          <a:ln w="0">
            <a:noFill/>
          </a:ln>
        </p:spPr>
        <p:txBody>
          <a:bodyPr anchor="t">
            <a:noAutofit/>
          </a:bodyPr>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	</a:t>
            </a:r>
            <a:r>
              <a:rPr b="0" lang="tr-TR" sz="1900" spc="-1" strike="noStrike">
                <a:solidFill>
                  <a:srgbClr val="000000"/>
                </a:solidFill>
                <a:latin typeface="Calibri"/>
              </a:rPr>
              <a:t>5. DEYİM ve ATASÖZÜ YANLIŞLIK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Deyimler ve atasözleri kalıplaşmış sözlerdir. Bu yüzden deyim ve atasözlerinde yer alan sözcüklerden herhangi biri değiştirilemez, çıkarılamaz, başka bir yerde kullanılamaz.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Yüzünden dökülen bin parçaydı.</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kazanmak için bütün zorlukları gözden çıkardı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na ayak bağı oluyor , işini çabuk bitirmesini sağlıyordu.</a:t>
            </a:r>
            <a:br>
              <a:rPr sz="1900"/>
            </a:br>
            <a:r>
              <a:rPr b="0" lang="tr-TR" sz="1900" spc="-1" strike="noStrike">
                <a:solidFill>
                  <a:srgbClr val="ff0000"/>
                </a:solidFill>
                <a:latin typeface="Comic Sans MS"/>
              </a:rPr>
              <a:t>Ona yardım et elinden geleni ardına koyma.</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6. MANTIK HATALA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tım bozuklarının bir nedeni de sözde bilgi ve mantık yanlışlıklarının bulunması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ütün bildiklerimi ve bilmediklerimi oğluma öğreteceğim.</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eni duymayan arkadaşlar lütfen ellerini kaldırsın.</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aharın en güzel aylarından biridir nisan, mayıs. </a:t>
            </a:r>
            <a:r>
              <a:rPr b="0" lang="tr-TR" sz="1900" spc="-1" strike="noStrike">
                <a:solidFill>
                  <a:srgbClr val="ff0000"/>
                </a:solidFill>
                <a:latin typeface="Comic Sans MS"/>
              </a:rPr>
              <a:t>	</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400" spc="-1" strike="noStrike">
              <a:solidFill>
                <a:srgbClr val="000000"/>
              </a:solidFill>
              <a:latin typeface="Calibri Light"/>
            </a:endParaRPr>
          </a:p>
        </p:txBody>
      </p:sp>
      <p:pic>
        <p:nvPicPr>
          <p:cNvPr id="56" name="Picture 4" descr="IMG_0455"/>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YAPIDAN KAYNAKLANAN ANLATIM BOZUKLUKLARI</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82160" y="685440"/>
            <a:ext cx="8247240" cy="5992920"/>
          </a:xfrm>
          <a:prstGeom prst="rect">
            <a:avLst/>
          </a:prstGeom>
          <a:noFill/>
          <a:ln w="0">
            <a:noFill/>
          </a:ln>
        </p:spPr>
        <p:txBody>
          <a:bodyPr anchor="t">
            <a:noAutofit/>
          </a:bodyPr>
          <a:p>
            <a:pPr marL="369720" indent="-369720" algn="ct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AMLAMA YANLIŞLIKLARI</a:t>
            </a:r>
            <a:endParaRPr b="0" lang="en-US" sz="1900" spc="-1" strike="noStrike">
              <a:solidFill>
                <a:srgbClr val="000000"/>
              </a:solidFill>
              <a:latin typeface="Calibri"/>
            </a:endParaRPr>
          </a:p>
          <a:p>
            <a:pPr marL="369720" indent="-36972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d ve sıfat tamlamalarında, tamlayan ya da tamlanan sözcüklerin  yersiz kullanılması; ya da yerinde kullanılmaması yanlışlıklara yol açar. Tamlama yanlışlıklarını şöyle gruplayabiliriz:</a:t>
            </a: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369720" indent="-369720"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82520" y="685440"/>
            <a:ext cx="817560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Tamlayan Eki Eksikliği</a:t>
            </a:r>
            <a:r>
              <a:rPr b="0" lang="tr-TR" sz="1900" spc="-1" strike="noStrike">
                <a:solidFill>
                  <a:srgbClr val="000000"/>
                </a:solidFill>
                <a:latin typeface="Calibri"/>
              </a:rPr>
              <a:t>:Belirtili isim tamlamasında kullanılan tamlayan eki, özellikle tamlayan ve tamlanan arasına sözcükler girdiğinde unutulabiliyor. Böylece tamlayanla tamlanan arasındaki bağ kopuyor ve cümlenin anlatımı bozuluyo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Her önüne gelen aklına esen sözcüğü dilimize mal etmesi yanlıştır.</a:t>
            </a:r>
            <a:br>
              <a:rPr sz="1900"/>
            </a:br>
            <a:r>
              <a:rPr b="0" lang="tr-TR" sz="1900" spc="-1" strike="noStrike">
                <a:solidFill>
                  <a:srgbClr val="ff0000"/>
                </a:solidFill>
                <a:latin typeface="Comic Sans MS"/>
              </a:rPr>
              <a:t>Bu duygular geçici ve insanı yanıltıcı olduğu bilinmelidi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b)Tamlayan Eksikliği: </a:t>
            </a:r>
            <a:r>
              <a:rPr b="0" lang="tr-TR" sz="1900" spc="-1" strike="noStrike">
                <a:solidFill>
                  <a:srgbClr val="000000"/>
                </a:solidFill>
                <a:latin typeface="Calibri"/>
              </a:rPr>
              <a:t>Belirtili ad tamlamalarında tamlayan bir kişi zamiri olduğunda düşebiliyor ve bu çoğu zaman bir anlatım bozukluğuna yol açmıyor. Bunun dışında tamlayanın düştüğü durumlarda genellikle anlatım bozukluğu ortaya çıkıyor.Özellikle sıralı veya bağlı cümlelerde tamlayanın düşmesi, belirsizliğe yol açabiliyo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Öğrenciye bir şey vermeden gelişmesini umma.</a:t>
            </a:r>
            <a:br>
              <a:rPr sz="1900"/>
            </a:br>
            <a:r>
              <a:rPr b="0" lang="tr-TR" sz="1900" spc="-1" strike="noStrike">
                <a:solidFill>
                  <a:srgbClr val="ff0000"/>
                </a:solidFill>
                <a:latin typeface="Comic Sans MS"/>
              </a:rPr>
              <a:t>Arkadaşına yardım ederek mutlu olmasını sağladı.</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520" y="685440"/>
            <a:ext cx="810432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c) Ad tamlamasında tamlayan ve tamlanan arasındaki uyumsuzluk:</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r>
              <a:rPr b="0" lang="tr-TR" sz="1900" spc="-1" strike="noStrike">
                <a:solidFill>
                  <a:srgbClr val="000000"/>
                </a:solidFill>
                <a:latin typeface="Calibri"/>
              </a:rPr>
              <a:t>Kişi zamirlerinin kullanıldığı ad tamlamalarında tamlananın ortak olması, tamlanandaki iyelik ekiyle ilgili uyumsuzluklar doğurabili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enim ve senin unutmaman gereken bir gerçek v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82520" y="685440"/>
            <a:ext cx="877896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2. EKLERİN YANLIŞ KULLANIMI</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oğru bir cümlede gereksiz sözcük bulunmayacağı gibi gereksiz ekler de bulunmaz.</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Pahalılığın yegâne sebepleri bizi yönetenlerd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mic Sans MS"/>
              </a:rPr>
              <a:t>Doğu’daki çıkan bu isyanlar kısa sürede bastırıldı.</a:t>
            </a:r>
            <a:endParaRPr b="0" lang="en-US" sz="20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0" y="642600"/>
            <a:ext cx="821520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3. ÖZNE YÜKLEM UYUMSUZLUĞ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Özellikle sıralı cümlelerde öznenin her iki yüklemin de öznesi olamadığı durumlarda karşımıza çıkan bir anlatım bozukluğudur. Farklı yüklemler aynı özneye bağlandığında bu durum ortaya çıkar.</a:t>
            </a:r>
            <a:r>
              <a:rPr b="1" lang="tr-TR" sz="1900" spc="-1" strike="noStrike">
                <a:solidFill>
                  <a:srgbClr val="000000"/>
                </a:solidFill>
                <a:latin typeface="Calibri"/>
              </a:rPr>
              <a:t> </a:t>
            </a:r>
            <a:r>
              <a:rPr b="0" lang="tr-TR" sz="1900" spc="-1" strike="noStrike">
                <a:solidFill>
                  <a:srgbClr val="000000"/>
                </a:solidFill>
                <a:latin typeface="Calibri"/>
              </a:rPr>
              <a:t>Cümlede öznenin ifade ettiği şahıslarla yüklemin bildirdiği şahıs arasında bir uyum olmalıdır.</a:t>
            </a:r>
            <a:endParaRPr b="0" lang="en-US" sz="1900" spc="-1" strike="noStrike">
              <a:solidFill>
                <a:srgbClr val="000000"/>
              </a:solidFill>
              <a:latin typeface="Calibri"/>
            </a:endParaRPr>
          </a:p>
          <a:p>
            <a:pPr algn="just">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Bu soruyu ancak ben ve sen çözebiliri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erkes oyun oynuyor, kitap okumuyordu.</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3" name="2 Resim" descr=""/>
          <p:cNvPicPr/>
          <p:nvPr/>
        </p:nvPicPr>
        <p:blipFill>
          <a:blip r:embed="rId1"/>
          <a:stretch/>
        </p:blipFill>
        <p:spPr>
          <a:xfrm>
            <a:off x="0" y="0"/>
            <a:ext cx="82152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75920"/>
            <a:ext cx="8250480" cy="5992920"/>
          </a:xfrm>
          <a:prstGeom prst="rect">
            <a:avLst/>
          </a:prstGeom>
          <a:noFill/>
          <a:ln w="0">
            <a:noFill/>
          </a:ln>
        </p:spPr>
        <p:txBody>
          <a:bodyPr anchor="t">
            <a:noAutofit/>
          </a:bodyPr>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900" spc="-1" strike="noStrike">
                <a:solidFill>
                  <a:srgbClr val="000000"/>
                </a:solidFill>
                <a:latin typeface="Calibri"/>
              </a:rPr>
              <a:t>Anlatım bozukluğunun ortaya çıkmaması için özne ile yüklem arasında  şu uyumlar olmalıdır:</a:t>
            </a:r>
            <a:endParaRPr b="0" lang="en-US" sz="1900" spc="-1" strike="noStrike">
              <a:solidFill>
                <a:srgbClr val="000000"/>
              </a:solidFill>
              <a:latin typeface="Calibri"/>
            </a:endParaRPr>
          </a:p>
          <a:p>
            <a:pPr>
              <a:lnSpc>
                <a:spcPct val="150000"/>
              </a:lnSpc>
              <a:spcBef>
                <a:spcPts val="1001"/>
              </a:spcBef>
              <a:buClr>
                <a:srgbClr val="000000"/>
              </a:buClr>
              <a:buFont typeface="Calibri"/>
              <a:buAutoNum type="alphaLcParen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Topluluk isimleri özne ise yüklem tekil olur;ancak topluluk isimleri çoğul eki alıyorsa yüklem de a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izim takım sahaya çıktı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Bizim takım sahaya çıktı.</a:t>
            </a:r>
            <a:br>
              <a:rPr sz="1900"/>
            </a:br>
            <a:r>
              <a:rPr b="0" lang="tr-TR" sz="1900" spc="-1" strike="noStrike">
                <a:solidFill>
                  <a:srgbClr val="ff0000"/>
                </a:solidFill>
                <a:latin typeface="Comic Sans MS"/>
              </a:rPr>
              <a:t>Takımlar nihayet sahaya çıktılar.</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br>
              <a:rPr sz="1900"/>
            </a:b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gn="ct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
        <p:nvSpPr>
          <p:cNvPr id="65" name="4 Sağ Ok"/>
          <p:cNvSpPr/>
          <p:nvPr/>
        </p:nvSpPr>
        <p:spPr>
          <a:xfrm>
            <a:off x="3492360" y="3429000"/>
            <a:ext cx="1036800" cy="71280"/>
          </a:xfrm>
          <a:prstGeom prst="rightArrow">
            <a:avLst>
              <a:gd name="adj1" fmla="val 50000"/>
              <a:gd name="adj2" fmla="val 50101"/>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160" y="685440"/>
            <a:ext cx="824724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b)Bitki,hayvan,cansız varlık ve organ isimleri çoğul durumda özne ise yüklem tekil olur.</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Comic Sans MS"/>
              </a:rPr>
              <a:t>Bu sıralar çok sağlam yapılmışlar. </a:t>
            </a:r>
            <a:r>
              <a:rPr b="0" lang="tr-TR" sz="1600" spc="-1" strike="noStrike">
                <a:solidFill>
                  <a:srgbClr val="ff0000"/>
                </a:solidFill>
                <a:latin typeface="Comic Sans MS"/>
              </a:rPr>
              <a:t>	</a:t>
            </a:r>
            <a:r>
              <a:rPr b="0" lang="tr-TR" sz="1600" spc="-1" strike="noStrike">
                <a:solidFill>
                  <a:srgbClr val="ff0000"/>
                </a:solidFill>
                <a:latin typeface="Comic Sans MS"/>
              </a:rPr>
              <a:t>	</a:t>
            </a:r>
            <a:r>
              <a:rPr b="0" lang="tr-TR" sz="1600" spc="-1" strike="noStrike">
                <a:solidFill>
                  <a:srgbClr val="ff0000"/>
                </a:solidFill>
                <a:latin typeface="Comic Sans MS"/>
              </a:rPr>
              <a:t>Bu sıralar çok sağlam yapılmış.</a:t>
            </a:r>
            <a:endParaRPr b="0" lang="en-US" sz="16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Not:</a:t>
            </a:r>
            <a:r>
              <a:rPr b="0" lang="tr-TR" sz="1900" spc="-1" strike="noStrike">
                <a:solidFill>
                  <a:srgbClr val="000000"/>
                </a:solidFill>
                <a:latin typeface="Calibri"/>
              </a:rPr>
              <a:t>İnsan dışı varlıklar kişileştirme yolu ile çoğul özne ise yüklem de çoğul ol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r>
              <a:rPr b="0" lang="tr-TR" sz="1900" spc="-1" strike="noStrike">
                <a:solidFill>
                  <a:srgbClr val="ff0000"/>
                </a:solidFill>
                <a:latin typeface="Comic Sans MS"/>
              </a:rPr>
              <a:t>Martılar bize selam getirdiler.</a:t>
            </a:r>
            <a:br>
              <a:rPr sz="1900"/>
            </a:br>
            <a:r>
              <a:rPr b="0" lang="tr-TR" sz="1900" spc="-1" strike="noStrike">
                <a:solidFill>
                  <a:srgbClr val="ff0000"/>
                </a:solidFill>
                <a:latin typeface="Comic Sans MS"/>
              </a:rPr>
              <a:t>Dağlar beyaz şallarını omuzlarına attılar.</a:t>
            </a:r>
            <a:endParaRPr b="0" lang="en-US" sz="1900" spc="-1" strike="noStrike">
              <a:solidFill>
                <a:srgbClr val="000000"/>
              </a:solidFill>
              <a:latin typeface="Calibri"/>
            </a:endParaRPr>
          </a:p>
        </p:txBody>
      </p:sp>
      <p:sp>
        <p:nvSpPr>
          <p:cNvPr id="67" name="5 Sağ Ok"/>
          <p:cNvSpPr/>
          <p:nvPr/>
        </p:nvSpPr>
        <p:spPr>
          <a:xfrm>
            <a:off x="3564000" y="2205000"/>
            <a:ext cx="1036440" cy="71640"/>
          </a:xfrm>
          <a:prstGeom prst="rightArrow">
            <a:avLst>
              <a:gd name="adj1" fmla="val 50000"/>
              <a:gd name="adj2" fmla="val 49832"/>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357120"/>
            <a:ext cx="8390160" cy="63216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c)Eylem isimleri ,çoğul özne ise yüklem tekil olu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ülüşmeler çok uzun sürdüler.</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 Gülüşmeler çok uzun sürdü. </a:t>
            </a:r>
            <a:br>
              <a:rPr sz="1900"/>
            </a:b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d)Çoğul sayılar özne ise yüklem tekil olur.</a:t>
            </a:r>
            <a:br>
              <a:rPr sz="1900"/>
            </a:br>
            <a:r>
              <a:rPr b="0" lang="tr-TR" sz="1900" spc="-1" strike="noStrike">
                <a:solidFill>
                  <a:srgbClr val="ff0000"/>
                </a:solidFill>
                <a:latin typeface="Comic Sans MS"/>
              </a:rPr>
              <a:t>Derse on öğrenci girmedile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Derse on öğrenci girmedi.</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e)Saygı,sitem,küçümseme gibi durumlar için özne tekil de olsa yüklem çoğul yapılabilir.</a:t>
            </a:r>
            <a:endParaRPr b="0" lang="en-US" sz="19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hmet Bey bizi hatırlamadılar.</a:t>
            </a:r>
            <a:br>
              <a:rPr sz="1900"/>
            </a:br>
            <a:r>
              <a:rPr b="0" lang="tr-TR" sz="1900" spc="-1" strike="noStrike">
                <a:solidFill>
                  <a:srgbClr val="ff0000"/>
                </a:solidFill>
                <a:latin typeface="Comic Sans MS"/>
              </a:rPr>
              <a:t>Ayşe Hanım odasında yokla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900"/>
            </a:b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9" name="6 Sağ Ok"/>
          <p:cNvSpPr/>
          <p:nvPr/>
        </p:nvSpPr>
        <p:spPr>
          <a:xfrm>
            <a:off x="3635280" y="1484280"/>
            <a:ext cx="1036800" cy="74520"/>
          </a:xfrm>
          <a:prstGeom prst="rightArrow">
            <a:avLst>
              <a:gd name="adj1" fmla="val 50000"/>
              <a:gd name="adj2" fmla="val 50048"/>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
        <p:nvSpPr>
          <p:cNvPr id="70" name="7 Sağ Ok"/>
          <p:cNvSpPr/>
          <p:nvPr/>
        </p:nvSpPr>
        <p:spPr>
          <a:xfrm>
            <a:off x="3564000" y="2997360"/>
            <a:ext cx="1036440" cy="71280"/>
          </a:xfrm>
          <a:prstGeom prst="rightArrow">
            <a:avLst>
              <a:gd name="adj1" fmla="val 50000"/>
              <a:gd name="adj2" fmla="val 50084"/>
            </a:avLst>
          </a:prstGeom>
          <a:solidFill>
            <a:srgbClr val="5b9bd5"/>
          </a:solidFill>
          <a:ln w="12600">
            <a:solidFill>
              <a:srgbClr val="41719c"/>
            </a:solidFill>
            <a:miter/>
          </a:ln>
        </p:spPr>
        <p:style>
          <a:lnRef idx="0"/>
          <a:fillRef idx="0"/>
          <a:effectRef idx="0"/>
          <a:fontRef idx="minor"/>
        </p:style>
        <p:txBody>
          <a:bodyPr lIns="74160" rIns="74160" tIns="-1080" bIns="-108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22040" y="614520"/>
            <a:ext cx="8521560" cy="59911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Öznede belgisiz zamir ya da belgisiz sıfat varsa yüklem tekil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Hiçbiri sizi görmüyorlar. </a:t>
            </a:r>
            <a:r>
              <a:rPr b="0" lang="tr-TR" sz="1900" spc="-1" strike="noStrike">
                <a:solidFill>
                  <a:srgbClr val="ff0000"/>
                </a:solidFill>
                <a:latin typeface="Comic Sans MS"/>
              </a:rPr>
              <a:t>	</a:t>
            </a:r>
            <a:r>
              <a:rPr b="0" lang="tr-TR" sz="1900" spc="-1" strike="noStrike">
                <a:solidFill>
                  <a:srgbClr val="ff0000"/>
                </a:solidFill>
                <a:latin typeface="Comic Sans MS"/>
              </a:rPr>
              <a:t>	</a:t>
            </a:r>
            <a:r>
              <a:rPr b="0" lang="tr-TR" sz="1900" spc="-1" strike="noStrike">
                <a:solidFill>
                  <a:srgbClr val="ff0000"/>
                </a:solidFill>
                <a:latin typeface="Comic Sans MS"/>
              </a:rPr>
              <a:t>Hiçbiri sizi görmüyor. </a:t>
            </a:r>
            <a:br>
              <a:rPr sz="1900"/>
            </a:b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g)Bir cümlede birden fazla özne varsa ve bu öznelerin biri 1.tekil kişi ise yüklem 1. çoğul kişi olu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Ali, Ahmet ve ben dün size uğramıştık.</a:t>
            </a:r>
            <a:br>
              <a:rPr sz="1900"/>
            </a:br>
            <a:r>
              <a:rPr b="0" lang="tr-TR" sz="1900" spc="-1" strike="noStrike">
                <a:solidFill>
                  <a:srgbClr val="ff0000"/>
                </a:solidFill>
                <a:latin typeface="Comic Sans MS"/>
              </a:rPr>
              <a:t>Ben ve kardeşim size inanmıyoruz.</a:t>
            </a: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72" name="3 Sağ Ok"/>
          <p:cNvSpPr/>
          <p:nvPr/>
        </p:nvSpPr>
        <p:spPr>
          <a:xfrm>
            <a:off x="3143160" y="1857240"/>
            <a:ext cx="1138320" cy="74880"/>
          </a:xfrm>
          <a:prstGeom prst="rightArrow">
            <a:avLst>
              <a:gd name="adj1" fmla="val 50000"/>
              <a:gd name="adj2" fmla="val 49829"/>
            </a:avLst>
          </a:prstGeom>
          <a:solidFill>
            <a:srgbClr val="5b9bd5"/>
          </a:solidFill>
          <a:ln w="12600">
            <a:solidFill>
              <a:srgbClr val="41719c"/>
            </a:solidFill>
            <a:miter/>
          </a:ln>
        </p:spPr>
        <p:style>
          <a:lnRef idx="0"/>
          <a:fillRef idx="0"/>
          <a:effectRef idx="0"/>
          <a:fontRef idx="minor"/>
        </p:style>
        <p:txBody>
          <a:bodyPr lIns="74160" rIns="74160" tIns="360" bIns="360" anchor="ctr">
            <a:no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82520" y="452160"/>
            <a:ext cx="8175600" cy="622620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ÖĞE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Özellikle sıralı cümlelerde tümleç (dolaylı tümleç, nesne, zarf tümleci) kullanılması gereken yerde kullanılmamışsa anlatım bozul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it-IT" sz="1900" spc="-1" strike="noStrike">
                <a:solidFill>
                  <a:srgbClr val="ff0000"/>
                </a:solidFill>
                <a:latin typeface="Comic Sans MS"/>
              </a:rPr>
              <a:t>Düşman kenti bombaladı ; ama gireme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Niye en çok şairlere kızarlar, korkar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Buna okurlarımız karar verir ve uygu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82520" y="452160"/>
            <a:ext cx="8390160" cy="622620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5. EK-FİİL, YARDIMCI FİİL, FİİLİMSİ, FİİL EKSİKLİK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Sıralı isim cümlelerinde ek fiil, fiilimsi, fiil veya yardımcı fiilden birinin kullanılmaması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Gömlekleri ben, pantolonları eşim ütüler.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Oğuz Atay’ı çok az, Orhan Pamuk’u hiç okumadım.</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Sinemada gazoz ve çekirdek yedik.</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Fiilimsinin gereksiz kullanımı da anlatım bozukluğuna yol aça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Yaklaşık olarak üç ay sonra görüşeceğiz.</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22040" y="685440"/>
            <a:ext cx="8235720" cy="59929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6. NOKTALAMA İŞARETLER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Noktalama işaretleri, cümlede kurucu bir görev üstlenmemekle birlikte cümledeki bağdaşıklığın ve bağlaşıklığın olmasına yardımcı olan birimlerdir. Özellikle virgül ve noktalı virgülün kullanılmadığı kimi durumlarda anlatım bozuklukları ortaya çıkabili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İhtiyar dilenciye seslend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Comic Sans MS"/>
              </a:rPr>
              <a:t>Kösele ayakkabı yapımında eskisi kadar kullanılmıyor.</a:t>
            </a: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77" name="3 Resim" descr=""/>
          <p:cNvPicPr/>
          <p:nvPr/>
        </p:nvPicPr>
        <p:blipFill>
          <a:blip r:embed="rId1"/>
          <a:stretch/>
        </p:blipFill>
        <p:spPr>
          <a:xfrm>
            <a:off x="0" y="0"/>
            <a:ext cx="8143920" cy="6572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UYGULAMALA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Ekşi yiyecekleri az , acıyı ise hiç yemezdi.</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u yazıyı değil okumak, anlamak bile imkânsız.</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endisine bütün sınıf adına teşekkür eder ve tebrik ederim.</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Bana yardım ederek, işi kısa sürede bitirmeme neden oldu.</a:t>
            </a:r>
            <a:endParaRPr b="0" lang="en-US" sz="19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Şirketteki mevcut ikilik günden güne büyüyor.</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22040" y="452160"/>
            <a:ext cx="8839080" cy="622620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Calibri"/>
              </a:rPr>
              <a:t>ÖDEV</a:t>
            </a:r>
            <a:endParaRPr b="0" lang="en-US" sz="18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Japonya’daki arkadaşıyla on yıl boyunca karşılıklı mektuplaşmış.</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üyüklere gereken saygıyı göstermeli ve incitmemeliyiz.</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Bu erikler çok tatlıdırla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Yanına gidin, konuşup derdinizi anlatın.</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Erzurum’da hava sıcaklığı sıfırın altında eksi otuz dolaylarındayd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Güç ve müşkül zamanlarda üstüne düşeni yerine getirir.</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Mutlaka bugün çocukluk arkadaşını belki arayaca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Parktaki yeşil çimenlere basınca bekçiyi kızdırdık.</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on dakikada attığı golle takımının galip gelmesine yol açtı.</a:t>
            </a:r>
            <a:endParaRPr b="0" lang="en-US" sz="1600" spc="-1" strike="noStrike">
              <a:solidFill>
                <a:srgbClr val="000000"/>
              </a:solidFill>
              <a:latin typeface="Calibri"/>
            </a:endParaRPr>
          </a:p>
          <a:p>
            <a:pPr>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Sınavı düzenli çalışmasına karşın kazandı.</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22400" y="685440"/>
            <a:ext cx="8092800" cy="59929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Dilin en önemli görevi onu kullanan insanlar arasındaki anlaşmayı sağlamaktır. Duygu ve düşünceler söz ya da yazıyla başkalarına aktarılırken dil ve anlatım kurallarına özen gösterilmesi gerekir. Söylenmek istenen her şey; açık, yalın ve anlaşılır biçimde dile getirilmelidir. Eğer konuşmada ve yazmada açıklık, yalınlık ve anlaşılırlık yoksa ortada bir anlatım bozukluğu var demektir.</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C:\Documents and Settings\user\Desktop\images.jpg"/>
          <p:cNvPicPr/>
          <p:nvPr/>
        </p:nvPicPr>
        <p:blipFill>
          <a:blip r:embed="rId1"/>
          <a:stretch/>
        </p:blipFill>
        <p:spPr>
          <a:xfrm>
            <a:off x="2214720" y="324000"/>
            <a:ext cx="4357440" cy="613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C:\Documents and Settings\user\Desktop\231460_2.jpg"/>
          <p:cNvPicPr/>
          <p:nvPr/>
        </p:nvPicPr>
        <p:blipFill>
          <a:blip r:embed="rId1"/>
          <a:stretch/>
        </p:blipFill>
        <p:spPr>
          <a:xfrm>
            <a:off x="2214720" y="426960"/>
            <a:ext cx="4497120" cy="607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142560" y="428400"/>
            <a:ext cx="7886520" cy="6143400"/>
          </a:xfrm>
          <a:prstGeom prst="rect">
            <a:avLst/>
          </a:prstGeom>
          <a:noFill/>
          <a:ln w="0">
            <a:noFill/>
          </a:ln>
        </p:spPr>
        <p:txBody>
          <a:bodyPr anchor="t">
            <a:normAutofit/>
          </a:bodyPr>
          <a:p>
            <a:pPr marL="228600" indent="-22860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LAF SALATASI YAPMAK İÇİN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Gerekli malzeme</a:t>
            </a:r>
            <a:r>
              <a:rPr b="0" lang="tr-TR" sz="2000" spc="-1" strike="noStrike">
                <a:solidFill>
                  <a:srgbClr val="000000"/>
                </a:solidFill>
                <a:latin typeface="Calibri"/>
              </a:rPr>
              <a:t>: 750 gr pırıltılı sözcük (Anlamı herkesçe bilinmeyen ve yabancı kökenli olanlar tercih edilmelidi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Bir bağ söz dizimi (Uzun, karışık, dolaşık olanlar ya da yine yabancı kökenliler tercih edilmelid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İçi için: </a:t>
            </a:r>
            <a:r>
              <a:rPr b="0" lang="tr-TR" sz="2000" spc="-1" strike="noStrike">
                <a:solidFill>
                  <a:srgbClr val="000000"/>
                </a:solidFill>
                <a:latin typeface="Calibri"/>
              </a:rPr>
              <a:t>İncir çekirdeğinden az küçük anlam.</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1" lang="tr-TR" sz="2000" spc="-1" strike="noStrike">
                <a:solidFill>
                  <a:srgbClr val="000000"/>
                </a:solidFill>
                <a:latin typeface="Calibri"/>
              </a:rPr>
              <a:t>Hazırlanışı: </a:t>
            </a:r>
            <a:r>
              <a:rPr b="0" lang="tr-TR" sz="2000" spc="-1" strike="noStrike">
                <a:solidFill>
                  <a:srgbClr val="000000"/>
                </a:solidFill>
                <a:latin typeface="Calibri"/>
              </a:rPr>
              <a:t>Anlamın tamamı bir havanda dövülür. Söz dizimi parmak kalınlığında parçalara bölünüp sözcüklerle karıştırılır. Anlam bu karışıma iyice yedirilir. Kalanı ayrı bir kapta dinlenmeye bırakılır. Üstüne bol kibir gezdirilir. Asık surat sosuyla sıcağı sıcağına servis yapılır. Bu salata, getirildiği sofranın daima baş yemeği olur ve onu hazırlayıp getireni daha servis tamamlanmadan iki beden büyütür. Yiyen kişide baş dönmesiyle başlayan bir kırıklığa yol açarsa da bu etki genellikle uzun sürmez. Kaşıntı ve kızarıklık hâllerinde doktora haber verilmelidir…</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Feyza HEPÇİLİNGİRLER </a:t>
            </a:r>
            <a:endParaRPr b="0" lang="en-US" sz="2000" spc="-1" strike="noStrike">
              <a:solidFill>
                <a:srgbClr val="000000"/>
              </a:solidFill>
              <a:latin typeface="Calibri"/>
            </a:endParaRPr>
          </a:p>
          <a:p>
            <a:pPr marL="228600" indent="-228600"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Dedim: “Ah!”</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C:\Documents and Settings\user\Desktop\286349_2.jpg"/>
          <p:cNvPicPr/>
          <p:nvPr/>
        </p:nvPicPr>
        <p:blipFill>
          <a:blip r:embed="rId1"/>
          <a:stretch/>
        </p:blipFill>
        <p:spPr>
          <a:xfrm>
            <a:off x="1866960" y="357120"/>
            <a:ext cx="4629240" cy="600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2040" y="547200"/>
            <a:ext cx="8839080" cy="613116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TIM BOZUKLUKLARI</a:t>
            </a:r>
            <a:endParaRPr b="0" lang="en-US" sz="14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alibri"/>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300" spc="-1" strike="noStrike">
                <a:solidFill>
                  <a:srgbClr val="000000"/>
                </a:solidFill>
                <a:latin typeface="Comic Sans MS"/>
              </a:rPr>
              <a:t> </a:t>
            </a:r>
            <a:r>
              <a:rPr b="0" lang="tr-TR" sz="1300" spc="-1" strike="noStrike">
                <a:solidFill>
                  <a:srgbClr val="000000"/>
                </a:solidFill>
                <a:latin typeface="Comic Sans MS"/>
              </a:rPr>
              <a:t>	</a:t>
            </a:r>
            <a:r>
              <a:rPr b="1" lang="tr-TR" sz="1300" spc="-1" strike="noStrike">
                <a:solidFill>
                  <a:srgbClr val="000000"/>
                </a:solidFill>
                <a:latin typeface="Comic Sans MS"/>
              </a:rPr>
              <a:t>  </a:t>
            </a:r>
            <a:endParaRPr b="0" lang="en-US" sz="13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tr-TR" sz="1400" spc="-1" strike="noStrike">
                <a:solidFill>
                  <a:srgbClr val="000000"/>
                </a:solidFill>
                <a:latin typeface="Calibri"/>
              </a:rPr>
              <a:t>ANLAMDAN KAYNAKLANAN</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1" lang="tr-TR" sz="1400" spc="-1" strike="noStrike">
                <a:solidFill>
                  <a:srgbClr val="000000"/>
                </a:solidFill>
                <a:latin typeface="Calibri"/>
              </a:rPr>
              <a:t>YAPIDAN KAYNAKLANAN</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Gereksiz sözcük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1. Tamlama yanlışları</a:t>
            </a:r>
            <a:r>
              <a:rPr b="0" lang="tr-TR" sz="1400" spc="-1" strike="noStrike">
                <a:solidFill>
                  <a:srgbClr val="000000"/>
                </a:solidFill>
                <a:latin typeface="Calibri"/>
              </a:rPr>
              <a:t>	</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yerde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2. Eklerin yanlış kullanımı</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Sözcüğün yanlış anlamda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3. Özne-yüklem uyumsuzluğu</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Anlamca çelişen sözcükler kullanılmas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4. Öğe Eksiklikler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Deyim ve atasözü yanlışlık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5. Ek-fiil, yardımcı fiil, fiil eksikliği</a:t>
            </a:r>
            <a:endParaRPr b="0" lang="en-US" sz="1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400" spc="-1" strike="noStrike">
                <a:solidFill>
                  <a:srgbClr val="000000"/>
                </a:solidFill>
                <a:latin typeface="Calibri"/>
              </a:rPr>
              <a:t>Mantık hataları</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6. Noktalama işaretlerinin kullanımı</a:t>
            </a:r>
            <a:endParaRPr b="0" lang="en-US" sz="1400" spc="-1" strike="noStrike">
              <a:solidFill>
                <a:srgbClr val="000000"/>
              </a:solidFill>
              <a:latin typeface="Calibri"/>
            </a:endParaRPr>
          </a:p>
        </p:txBody>
      </p:sp>
      <p:cxnSp>
        <p:nvCxnSpPr>
          <p:cNvPr id="46" name="5 Düz Ok Bağlayıcısı"/>
          <p:cNvCxnSpPr/>
          <p:nvPr/>
        </p:nvCxnSpPr>
        <p:spPr>
          <a:xfrm flipH="1">
            <a:off x="2050200" y="1123920"/>
            <a:ext cx="2234520" cy="1154880"/>
          </a:xfrm>
          <a:prstGeom prst="straightConnector1">
            <a:avLst/>
          </a:prstGeom>
          <a:ln w="6480">
            <a:solidFill>
              <a:srgbClr val="5b9bd5"/>
            </a:solidFill>
            <a:miter/>
            <a:tailEnd len="med" type="arrow" w="med"/>
          </a:ln>
        </p:spPr>
      </p:cxnSp>
      <p:cxnSp>
        <p:nvCxnSpPr>
          <p:cNvPr id="47" name="7 Düz Ok Bağlayıcısı"/>
          <p:cNvCxnSpPr/>
          <p:nvPr/>
        </p:nvCxnSpPr>
        <p:spPr>
          <a:xfrm>
            <a:off x="4284360" y="1123920"/>
            <a:ext cx="1872360" cy="1154880"/>
          </a:xfrm>
          <a:prstGeom prst="straightConnector1">
            <a:avLst/>
          </a:prstGeom>
          <a:ln w="6480">
            <a:solidFill>
              <a:srgbClr val="5b9bd5"/>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440"/>
            <a:ext cx="8839080" cy="599292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ANLAMDAN KAYNAKLANAN ANLATIM BOZUKLUKLARI</a:t>
            </a:r>
            <a:endParaRPr b="0" lang="en-US" sz="19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82520" y="452160"/>
            <a:ext cx="8104320" cy="6226200"/>
          </a:xfrm>
          <a:prstGeom prst="rect">
            <a:avLst/>
          </a:prstGeom>
          <a:noFill/>
          <a:ln w="0">
            <a:noFill/>
          </a:ln>
        </p:spPr>
        <p:txBody>
          <a:bodyPr anchor="t">
            <a:noAutofit/>
          </a:bodyPr>
          <a:p>
            <a:pPr marL="415800" indent="-415800"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1. GEREKSİZ SÖZCÜK KULLANIMI</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Bir cümlede bulunan gereksiz sözcükler, o cümlenin gücünü azaltır.Buna karşılık içinde gereksiz sözcük  bulunmayan cümleler, daha etkili ve inandırıcıdır.</a:t>
            </a:r>
            <a:endParaRPr b="0" lang="en-US" sz="1600" spc="-1" strike="noStrike">
              <a:solidFill>
                <a:srgbClr val="000000"/>
              </a:solidFill>
              <a:latin typeface="Calibri"/>
            </a:endParaRPr>
          </a:p>
          <a:p>
            <a:pPr marL="415800" indent="-415800">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000000"/>
                </a:solidFill>
                <a:latin typeface="Calibri"/>
              </a:rPr>
              <a:t>Cümlede gereksiz kullanılan sözcükler, cümleden çıkarıldıklarında cümlede herhangi bir anlam değişmesi ya da daralması olmaz, cümlenin kuruluşu da bozulmaz.</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Üç saatlik yolu yaya yürüyerek gittik.</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Onlar da beş yıldır karşılıklı mektuplaşıyorlar.</a:t>
            </a:r>
            <a:endParaRPr b="0" lang="en-US" sz="1600" spc="-1" strike="noStrike">
              <a:solidFill>
                <a:srgbClr val="000000"/>
              </a:solidFill>
              <a:latin typeface="Calibri"/>
            </a:endParaRPr>
          </a:p>
          <a:p>
            <a:pPr marL="415800" indent="-415800">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600" spc="-1" strike="noStrike">
                <a:solidFill>
                  <a:srgbClr val="ff0000"/>
                </a:solidFill>
                <a:latin typeface="Comic Sans MS"/>
              </a:rPr>
              <a:t>Kulağıma eğilerek alçak sesle bir şeyler fısıldadı.</a:t>
            </a:r>
            <a:endParaRPr b="0" lang="en-US" sz="1600" spc="-1" strike="noStrike">
              <a:solidFill>
                <a:srgbClr val="000000"/>
              </a:solidFill>
              <a:latin typeface="Calibri"/>
            </a:endParaRPr>
          </a:p>
          <a:p>
            <a:pPr marL="415800" indent="-415800">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marL="415800" indent="-415800">
              <a:lnSpc>
                <a:spcPct val="90000"/>
              </a:lnSpc>
              <a:spcBef>
                <a:spcPts val="1001"/>
              </a:spcBef>
              <a:buClr>
                <a:srgbClr val="ff0000"/>
              </a:buClr>
              <a:buFont typeface="Arial"/>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2. SÖZCÜĞÜN YANLIŞ YERDE KULLANILMASI</a:t>
            </a:r>
            <a:endParaRPr b="0" lang="en-US" sz="20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000000"/>
                </a:solidFill>
                <a:latin typeface="Calibri"/>
              </a:rPr>
              <a:t>Bazen sözcük doğrudur ancak cümlede bulunduğu yer doğru değildir. Bu durum da anlatım bozukluğuna yol açar.</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Alınan bu karar, savaşta askerin daha çok ölmesine yol açtı.</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Cesetler çok denizde kaldığından çürümüş.</a:t>
            </a:r>
            <a:endParaRPr b="0" lang="en-US" sz="20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2000" spc="-1" strike="noStrike">
                <a:solidFill>
                  <a:srgbClr val="ff0000"/>
                </a:solidFill>
                <a:latin typeface="Comic Sans MS"/>
              </a:rPr>
              <a:t>Kravatsız müdürün odasına girmeyin.</a:t>
            </a:r>
            <a:endParaRPr b="0" lang="en-US" sz="20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82160" y="685440"/>
            <a:ext cx="803268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3. SÖZCÜĞÜN YANLIŞ ANLAMDA KULLANILMASI</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Bir kelimenin anlamına uygun olmayan bir şekilde veya benzer şekilde yazılan bir kelimenin yerine kullanılması anlatım bozukluğuna yol açar. Doğru bir anlatım için, amaca, anlatılmak istenene en uygun sözcükleri seçmek gerekir. Bunun için de sözcüklerin anlamlarını iyi bilmek şarttı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Şimdi erkeklere </a:t>
            </a:r>
            <a:r>
              <a:rPr b="0" lang="tr-TR" sz="1900" spc="-1" strike="noStrike" u="sng">
                <a:solidFill>
                  <a:srgbClr val="ff0000"/>
                </a:solidFill>
                <a:uFillTx/>
                <a:latin typeface="Comic Sans MS"/>
              </a:rPr>
              <a:t>özgü</a:t>
            </a:r>
            <a:r>
              <a:rPr b="0" lang="tr-TR" sz="1900" spc="-1" strike="noStrike">
                <a:solidFill>
                  <a:srgbClr val="ff0000"/>
                </a:solidFill>
                <a:latin typeface="Comic Sans MS"/>
              </a:rPr>
              <a:t> yeni“Head&amp;Shoulders” ile %100 dayanıklı saçla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Tarım ilaçlarının su ve toprak kirlenmesinde önemli bir </a:t>
            </a:r>
            <a:r>
              <a:rPr b="0" lang="tr-TR" sz="1900" spc="-1" strike="noStrike" u="sng">
                <a:solidFill>
                  <a:srgbClr val="ff0000"/>
                </a:solidFill>
                <a:uFillTx/>
                <a:latin typeface="Comic Sans MS"/>
              </a:rPr>
              <a:t>katkısı</a:t>
            </a:r>
            <a:r>
              <a:rPr b="0" lang="tr-TR" sz="1900" spc="-1" strike="noStrike">
                <a:solidFill>
                  <a:srgbClr val="ff0000"/>
                </a:solidFill>
                <a:latin typeface="Comic Sans MS"/>
              </a:rPr>
              <a:t> vardı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Vatandaşlarımız arasında din ,dil,ırk </a:t>
            </a:r>
            <a:r>
              <a:rPr b="0" lang="tr-TR" sz="1900" spc="-1" strike="noStrike" u="sng">
                <a:solidFill>
                  <a:srgbClr val="ff0000"/>
                </a:solidFill>
                <a:uFillTx/>
                <a:latin typeface="Comic Sans MS"/>
              </a:rPr>
              <a:t>ayrıntısı</a:t>
            </a:r>
            <a:r>
              <a:rPr b="0" lang="tr-TR" sz="1900" spc="-1" strike="noStrike">
                <a:solidFill>
                  <a:srgbClr val="ff0000"/>
                </a:solidFill>
                <a:latin typeface="Comic Sans MS"/>
              </a:rPr>
              <a:t> yapılamaz.</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82520" y="685440"/>
            <a:ext cx="8104320" cy="5992920"/>
          </a:xfrm>
          <a:prstGeom prst="rect">
            <a:avLst/>
          </a:prstGeom>
          <a:noFill/>
          <a:ln w="0">
            <a:noFill/>
          </a:ln>
        </p:spPr>
        <p:txBody>
          <a:bodyPr anchor="t">
            <a:noAutofit/>
          </a:bodyPr>
          <a:p>
            <a:pPr algn="ct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4. ANLAMCA ÇELİŞEN SÖZCÜKLER</a:t>
            </a:r>
            <a:endParaRPr b="0" lang="en-US" sz="1900" spc="-1" strike="noStrike">
              <a:solidFill>
                <a:srgbClr val="000000"/>
              </a:solidFill>
              <a:latin typeface="Calibri"/>
            </a:endParaRPr>
          </a:p>
          <a:p>
            <a:pPr>
              <a:lnSpc>
                <a:spcPct val="150000"/>
              </a:lnSpc>
              <a:spcBef>
                <a:spcPts val="1001"/>
              </a:spcBef>
              <a:buClr>
                <a:srgbClr val="000000"/>
              </a:buClr>
              <a:buFont typeface="Wingdings" charset="2"/>
              <a:buChar char=""/>
              <a:tabLst>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000000"/>
                </a:solidFill>
                <a:latin typeface="Calibri"/>
              </a:rPr>
              <a:t>Anlamca birbirinin zıttı veya çelişiği olan kelimelerin aynı cümlede yer alması anlatım bozukluğuna sebep olur. Anlamca çelişen ifadeler, cümlede uyumu bozar; anlamda ikiliğe yol açarak belirsizlik doğuru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Derse girmediğimi hiç kuşkusuz babam öğrenmiş olabilir.</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Aşağı yukarı bundan tam otuz beş yıl önceydi.</a:t>
            </a:r>
            <a:endParaRPr b="0" lang="en-US" sz="1900" spc="-1" strike="noStrike">
              <a:solidFill>
                <a:srgbClr val="000000"/>
              </a:solidFill>
              <a:latin typeface="Calibri"/>
            </a:endParaRPr>
          </a:p>
          <a:p>
            <a:pPr>
              <a:lnSpc>
                <a:spcPct val="15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tr-TR" sz="1900" spc="-1" strike="noStrike">
                <a:solidFill>
                  <a:srgbClr val="ff0000"/>
                </a:solidFill>
                <a:latin typeface="Comic Sans MS"/>
              </a:rPr>
              <a:t>Okulu bitireli hemen hemen tam on yıl oldu.</a:t>
            </a: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a:p>
            <a:pPr>
              <a:lnSpc>
                <a:spcPct val="90000"/>
              </a:lnSpc>
              <a:spcBef>
                <a:spcPts val="1001"/>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5T16:54:44Z</dcterms:created>
  <dc:creator>pc</dc:creator>
  <dc:description/>
  <dc:language>en-US</dc:language>
  <cp:lastModifiedBy>pc</cp:lastModifiedBy>
  <dcterms:modified xsi:type="dcterms:W3CDTF">2018-04-23T19:22:37Z</dcterms:modified>
  <cp:revision>68</cp:revision>
  <dc:subject/>
  <dc:title>Slayt 1</dc:title>
</cp:coreProperties>
</file>